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389D-F1DC-489C-BD4B-6E140AA0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5A1-9DE5-43AC-8C41-9AF60A2C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720-BD9C-4DEE-89F4-88BAB7BB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09A-CFDA-47A8-9027-C8E8F144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777-4660-40E5-907C-162E9B4F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E827-1523-493C-AE18-753ABE7C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F69-6E56-4BCA-A6D4-A5F4AE2D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143-7042-4EA1-AC15-31647764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FF4-B4A7-4378-8F4F-1E52DD8E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766-B67D-4C4F-9DDE-DE64D602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30D-4FE6-4C88-9DF8-D5EFA34A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9F7-6644-4142-B23B-0C99256B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012D-5EB9-48C5-BF49-AADF35105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tudents Recordings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ategory: Classical Reco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chnical University of Gdan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und Engineering Depar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cording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oria” - part I Gloria, Antonio Vivald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form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oir “Cantores Veiherovienses” and cameral orchestra “Musica Camerat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lly Trinity Church in Wejherowo,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cording te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otr Od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or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arosław Derewec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otr Nowińs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afał Le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rtłomiej Podle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cording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ve recording, concer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rge church with long reverberation time about 5 second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d walls made of stone - strong reflected, not many diffuso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formers place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66680" y="1066680"/>
            <a:ext cx="7010640" cy="3429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2133720"/>
            <a:ext cx="2819520" cy="1371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67080" y="2673360"/>
            <a:ext cx="45720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43200" y="389268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43200" y="389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91120" y="389268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91120" y="38926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/>
          <p:nvPr/>
        </p:nvCxnSpPr>
        <p:spPr>
          <a:xfrm>
            <a:off x="3962160" y="4038120"/>
            <a:ext cx="1114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4343400" y="602604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67080" y="59497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595008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1" idx="4"/>
            <a:endCxn id="59" idx="0"/>
          </p:cNvCxnSpPr>
          <p:nvPr/>
        </p:nvCxnSpPr>
        <p:spPr>
          <a:xfrm>
            <a:off x="4495320" y="3130560"/>
            <a:ext cx="1080" cy="28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838080" y="5257800"/>
            <a:ext cx="3812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562720"/>
            <a:ext cx="3812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5867280"/>
            <a:ext cx="3812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8520" y="518148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O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7440" y="548640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CHEST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7800" y="5791320"/>
            <a:ext cx="15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3505320"/>
            <a:ext cx="3276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B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omnidirectional microphones Neumannn KM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distance 1 m and 1 m between them, 2,62 m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82680" y="5715000"/>
            <a:ext cx="33141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Y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stereo microphone Neumann 69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 m away from the condu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,30 m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7840" y="3740040"/>
            <a:ext cx="5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7120" y="228600"/>
            <a:ext cx="736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erformances and microphones 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4108680" y="4808520"/>
            <a:ext cx="50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escription of th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 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ith the additional microphone for natural reverbera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AMAHA O1V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o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track recording system with ADAT XT20 (20-bits 48 kHz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AES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92504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iscussion -advantag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id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ne balance between the choir and orches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iscussion -dis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equal reverberation of choir and orches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mall compatibility with mono-stereo because of using AB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0:18:14Z</dcterms:created>
  <dc:creator>Jacek Lasecki</dc:creator>
  <dc:description/>
  <dc:language>en-US</dc:language>
  <cp:lastModifiedBy>Jacek Lasecki</cp:lastModifiedBy>
  <dcterms:modified xsi:type="dcterms:W3CDTF">1999-05-05T13:48:17Z</dcterms:modified>
  <cp:revision>18</cp:revision>
  <dc:subject/>
  <dc:title>Students Recordings, Classical</dc:title>
</cp:coreProperties>
</file>